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C949-9F3E-4127-AC5E-87548BE33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4721-6528-4301-A5E2-F490A1BD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3BBA-2E28-4D85-8343-BD8C483C8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7E53-6CCC-46CC-9284-6FF144066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419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9B20-B06C-49CF-B299-303ECCAF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150D-A677-4E3F-8297-9349CD4A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DF9A-E386-4895-B777-482F1FB1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0376-B807-4A1E-A0D5-EF755B64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419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BB7C-3AF0-42A6-9BB5-8D0CCE01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692F-A6B8-4768-B652-CFC3B182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ED62-E0B5-4FE1-9BF1-F01B9F78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B54A-DAF1-4B6C-B68A-5E47BB67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ild 3" descr="KWP Blumenleiste kleiner Powerpoint Folie.jpg"/>
          <p:cNvPicPr/>
          <p:nvPr/>
        </p:nvPicPr>
        <p:blipFill>
          <a:blip r:embed="rId2"/>
          <a:stretch/>
        </p:blipFill>
        <p:spPr>
          <a:xfrm>
            <a:off x="0" y="5500800"/>
            <a:ext cx="9144000" cy="1357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a519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a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a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a51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www.haeuser-zum-leben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579640" y="6453360"/>
            <a:ext cx="33354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de-DE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Kuratorium Wiener Pensionisten-Wohnhäus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067280" y="6453000"/>
            <a:ext cx="576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B7E3EB-EF77-446F-9B93-838BDED9AF7E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hzl_4c_rgb"/>
          <p:cNvPicPr/>
          <p:nvPr/>
        </p:nvPicPr>
        <p:blipFill>
          <a:blip r:embed="rId3"/>
          <a:stretch/>
        </p:blipFill>
        <p:spPr>
          <a:xfrm>
            <a:off x="7142040" y="407880"/>
            <a:ext cx="1606680" cy="87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ild 3" descr="KWP Blumenleiste kleiner Powerpoint Folie.jpg"/>
          <p:cNvPicPr/>
          <p:nvPr/>
        </p:nvPicPr>
        <p:blipFill>
          <a:blip r:embed="rId2"/>
          <a:stretch/>
        </p:blipFill>
        <p:spPr>
          <a:xfrm>
            <a:off x="0" y="5500800"/>
            <a:ext cx="9144000" cy="1357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hzl_4c_rgb"/>
          <p:cNvPicPr/>
          <p:nvPr/>
        </p:nvPicPr>
        <p:blipFill>
          <a:blip r:embed="rId3"/>
          <a:stretch/>
        </p:blipFill>
        <p:spPr>
          <a:xfrm>
            <a:off x="324000" y="216000"/>
            <a:ext cx="2087280" cy="1135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a519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a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a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a51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www.haeuser-zum-leben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5651640" y="6473880"/>
            <a:ext cx="32479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de-DE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Kuratorium Wiener Pensionisten-Wohnhäus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457200" y="647388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haeuser-zum-lebe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5651640" y="6473880"/>
            <a:ext cx="3247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Kuratorium Wiener Pensionisten-Wohnhäus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57160" y="141120"/>
            <a:ext cx="623556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a519"/>
                </a:solidFill>
                <a:latin typeface="Arial"/>
                <a:ea typeface="Arial"/>
              </a:rPr>
              <a:t>Das IC3ger in der Sozialen Arbeit </a:t>
            </a:r>
            <a:br>
              <a:rPr sz="32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m Kuratorium Wiener Pensionisten-Wohnhä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23640" y="5500800"/>
            <a:ext cx="7056360" cy="80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aptierte Fassung des IC3 für die Anwendung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 der institutionellen Altenarbe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Bild 10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4000"/>
          </a:xfrm>
          <a:prstGeom prst="rect">
            <a:avLst/>
          </a:prstGeom>
          <a:ln w="0">
            <a:noFill/>
          </a:ln>
        </p:spPr>
      </p:pic>
      <p:pic>
        <p:nvPicPr>
          <p:cNvPr id="90" name="Bild 9" descr=""/>
          <p:cNvPicPr/>
          <p:nvPr/>
        </p:nvPicPr>
        <p:blipFill>
          <a:blip r:embed="rId2"/>
          <a:stretch/>
        </p:blipFill>
        <p:spPr>
          <a:xfrm>
            <a:off x="0" y="5357880"/>
            <a:ext cx="9144000" cy="55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Wie wirkt sich die Einnahme von Drogen auf eine Spinne beim Netzbau aus? Eine spannende Frage, der US-Forscher auf den Grund gegangen sind. Im Folgenden die Ergebnisse."/>
          <p:cNvPicPr/>
          <p:nvPr/>
        </p:nvPicPr>
        <p:blipFill>
          <a:blip r:embed="rId3"/>
          <a:stretch/>
        </p:blipFill>
        <p:spPr>
          <a:xfrm>
            <a:off x="395280" y="1533600"/>
            <a:ext cx="828036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Inhaltsplatzhalter 7" descr=""/>
          <p:cNvPicPr/>
          <p:nvPr/>
        </p:nvPicPr>
        <p:blipFill>
          <a:blip r:embed="rId1"/>
          <a:stretch/>
        </p:blipFill>
        <p:spPr>
          <a:xfrm>
            <a:off x="176040" y="328680"/>
            <a:ext cx="8742600" cy="5913360"/>
          </a:xfrm>
          <a:prstGeom prst="rect">
            <a:avLst/>
          </a:prstGeom>
          <a:ln w="0">
            <a:noFill/>
          </a:ln>
        </p:spPr>
      </p:pic>
      <p:sp>
        <p:nvSpPr>
          <p:cNvPr id="134" name="Datumsplatzhalter 3"/>
          <p:cNvSpPr/>
          <p:nvPr/>
        </p:nvSpPr>
        <p:spPr>
          <a:xfrm>
            <a:off x="457200" y="6453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haeuser-zum-lebe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ußzeilenplatzhalter 4"/>
          <p:cNvSpPr/>
          <p:nvPr/>
        </p:nvSpPr>
        <p:spPr>
          <a:xfrm>
            <a:off x="5580000" y="6453360"/>
            <a:ext cx="3335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Kuratorium Wiener Pensionisten-Wohnhäus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liennummernplatzhalter 5"/>
          <p:cNvSpPr/>
          <p:nvPr/>
        </p:nvSpPr>
        <p:spPr>
          <a:xfrm>
            <a:off x="4067280" y="6453360"/>
            <a:ext cx="57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079BFD-F93E-4778-840D-A38D8CB759BA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umsplatzhalter 3"/>
          <p:cNvSpPr/>
          <p:nvPr/>
        </p:nvSpPr>
        <p:spPr>
          <a:xfrm>
            <a:off x="457200" y="6453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haeuser-zum-lebe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ußzeilenplatzhalter 4"/>
          <p:cNvSpPr/>
          <p:nvPr/>
        </p:nvSpPr>
        <p:spPr>
          <a:xfrm>
            <a:off x="5580000" y="6453360"/>
            <a:ext cx="3335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Kuratorium Wiener Pensionisten-Wohnhäus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liennummernplatzhalter 5"/>
          <p:cNvSpPr/>
          <p:nvPr/>
        </p:nvSpPr>
        <p:spPr>
          <a:xfrm>
            <a:off x="4067280" y="6453360"/>
            <a:ext cx="57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D926DC-2F55-4352-8926-282E4DCF8053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Grafik 3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8962920" cy="61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umsplatzhalter 3"/>
          <p:cNvSpPr/>
          <p:nvPr/>
        </p:nvSpPr>
        <p:spPr>
          <a:xfrm>
            <a:off x="457200" y="6453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haeuser-zum-lebe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ußzeilenplatzhalter 4"/>
          <p:cNvSpPr/>
          <p:nvPr/>
        </p:nvSpPr>
        <p:spPr>
          <a:xfrm>
            <a:off x="5580000" y="6453360"/>
            <a:ext cx="3335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Kuratorium Wiener Pensionisten-Wohnhäus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liennummernplatzhalter 5"/>
          <p:cNvSpPr/>
          <p:nvPr/>
        </p:nvSpPr>
        <p:spPr>
          <a:xfrm>
            <a:off x="4067280" y="6453360"/>
            <a:ext cx="57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AE36D7-7AF7-4069-BCE0-143EC44C722E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Grafik 1" descr=""/>
          <p:cNvPicPr/>
          <p:nvPr/>
        </p:nvPicPr>
        <p:blipFill>
          <a:blip r:embed="rId1"/>
          <a:stretch/>
        </p:blipFill>
        <p:spPr>
          <a:xfrm>
            <a:off x="108000" y="333360"/>
            <a:ext cx="894852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f0000"/>
                </a:solidFill>
                <a:latin typeface="Arial"/>
                <a:ea typeface="Arial"/>
              </a:rPr>
              <a:t>Einsatz des Instrum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Es liegt dzt. in der Entscheidung der SozialarbeiterInnen bei welchen Fällen das Instrument eingesetzt wir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a51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Arial"/>
              </a:rPr>
              <a:t>bei komplexen Problemstellun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a51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Arial"/>
              </a:rPr>
              <a:t>beim Erstkontakt nach Einzu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a51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Arial"/>
              </a:rPr>
              <a:t>als Expertise für eine Fragestellung in der ICCM –Besprech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a51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Arial"/>
              </a:rPr>
              <a:t>Als Grundlage für eine fachliche Intervision mit der Fachexpertin der Qualitätssich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atumsplatzhalter 3"/>
          <p:cNvSpPr/>
          <p:nvPr/>
        </p:nvSpPr>
        <p:spPr>
          <a:xfrm>
            <a:off x="457200" y="6453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haeuser-zum-lebe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ußzeilenplatzhalter 4"/>
          <p:cNvSpPr/>
          <p:nvPr/>
        </p:nvSpPr>
        <p:spPr>
          <a:xfrm>
            <a:off x="5580000" y="6453360"/>
            <a:ext cx="3335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Kuratorium Wiener Pensionisten-Wohnhäus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liennummernplatzhalter 5"/>
          <p:cNvSpPr/>
          <p:nvPr/>
        </p:nvSpPr>
        <p:spPr>
          <a:xfrm>
            <a:off x="4067280" y="6453360"/>
            <a:ext cx="57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3307F4-7386-4382-A0B3-8CAD96AA8E12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0000"/>
                </a:solidFill>
                <a:latin typeface="Arial"/>
                <a:ea typeface="Arial"/>
              </a:rPr>
              <a:t>Fragestellungen/Probleme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a51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Es fehlt im Instrument ein Platz, wo die Geschäftsfähigkeit erfasst wi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a51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Fraglich: Sinnhaftigkeit der Trennung von „extern“ und „intern“ auf  Achse 1  - Übersichtlichkeit geri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a51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Achse 2: Statt Information/Medien wäre „Medien/Kultur“ als Kategorie anzuden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a51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Achse 2: Wessen Beurteilung wird dargestellt, ob „Wohnen „ / „Sicherheit“ adäquat ist? KlientIn/SO?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Es gibt dabei mehrere Aspekte, individuell empfundene/professionell wahrgenomm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a51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Verbindung mit dem KWP internem Doku-System &gt;&gt; keine doppelte Dokumentation (geringe Zeitressourcen vermindern die Motivation das Instrument zu verwend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atumsplatzhalter 3"/>
          <p:cNvSpPr/>
          <p:nvPr/>
        </p:nvSpPr>
        <p:spPr>
          <a:xfrm>
            <a:off x="457200" y="6453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haeuser-zum-lebe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ußzeilenplatzhalter 4"/>
          <p:cNvSpPr/>
          <p:nvPr/>
        </p:nvSpPr>
        <p:spPr>
          <a:xfrm>
            <a:off x="5580000" y="6453360"/>
            <a:ext cx="3335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Kuratorium Wiener Pensionisten-Wohnhäus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liennummernplatzhalter 5"/>
          <p:cNvSpPr/>
          <p:nvPr/>
        </p:nvSpPr>
        <p:spPr>
          <a:xfrm>
            <a:off x="4067280" y="6453360"/>
            <a:ext cx="57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82DDDB-0D1B-4F9C-B119-D104217AA211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umsplatzhalter 3"/>
          <p:cNvSpPr/>
          <p:nvPr/>
        </p:nvSpPr>
        <p:spPr>
          <a:xfrm>
            <a:off x="457200" y="6453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haeuser-zum-lebe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ußzeilenplatzhalter 4"/>
          <p:cNvSpPr/>
          <p:nvPr/>
        </p:nvSpPr>
        <p:spPr>
          <a:xfrm>
            <a:off x="5580000" y="6453360"/>
            <a:ext cx="3335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Kuratorium Wiener Pensionisten-Wohnhäus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oliennummernplatzhalter 5"/>
          <p:cNvSpPr/>
          <p:nvPr/>
        </p:nvSpPr>
        <p:spPr>
          <a:xfrm>
            <a:off x="4067280" y="6453360"/>
            <a:ext cx="57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AFD3E4-52D4-49E8-B024-E30A97A6648B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Untertitel 2"/>
          <p:cNvSpPr/>
          <p:nvPr/>
        </p:nvSpPr>
        <p:spPr>
          <a:xfrm>
            <a:off x="120600" y="1628640"/>
            <a:ext cx="5099040" cy="165600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Gerade Verbindung 12"/>
          <p:cNvSpPr/>
          <p:nvPr/>
        </p:nvSpPr>
        <p:spPr>
          <a:xfrm flipH="1">
            <a:off x="5362560" y="1440"/>
            <a:ext cx="1440" cy="6858000"/>
          </a:xfrm>
          <a:prstGeom prst="line">
            <a:avLst/>
          </a:prstGeom>
          <a:ln w="19080">
            <a:solidFill>
              <a:srgbClr val="ffa5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Bild 5" descr=""/>
          <p:cNvPicPr/>
          <p:nvPr/>
        </p:nvPicPr>
        <p:blipFill>
          <a:blip r:embed="rId1"/>
          <a:stretch/>
        </p:blipFill>
        <p:spPr>
          <a:xfrm>
            <a:off x="379440" y="203040"/>
            <a:ext cx="1038240" cy="1138320"/>
          </a:xfrm>
          <a:prstGeom prst="rect">
            <a:avLst/>
          </a:prstGeom>
          <a:ln w="0">
            <a:noFill/>
          </a:ln>
        </p:spPr>
      </p:pic>
      <p:sp>
        <p:nvSpPr>
          <p:cNvPr id="161" name="Untertitel 2"/>
          <p:cNvSpPr/>
          <p:nvPr/>
        </p:nvSpPr>
        <p:spPr>
          <a:xfrm>
            <a:off x="5724360" y="4611600"/>
            <a:ext cx="2808360" cy="833400"/>
          </a:xfrm>
          <a:prstGeom prst="rect">
            <a:avLst/>
          </a:prstGeom>
          <a:solidFill>
            <a:srgbClr val="ffa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achexpertin Interdisziplinäres Qualitätsmanagement -Schwerpunkt Sozialarb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5722200" y="4154400"/>
            <a:ext cx="2192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DSA Angelika </a:t>
            </a:r>
            <a:r>
              <a:rPr b="1" lang="de-DE" sz="1700" spc="-1" strike="noStrike">
                <a:solidFill>
                  <a:srgbClr val="ffa519"/>
                </a:solidFill>
                <a:latin typeface="Arial"/>
              </a:rPr>
              <a:t>Neu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Angelika Neuer neu2"/>
          <p:cNvPicPr/>
          <p:nvPr/>
        </p:nvPicPr>
        <p:blipFill>
          <a:blip r:embed="rId2"/>
          <a:stretch/>
        </p:blipFill>
        <p:spPr>
          <a:xfrm>
            <a:off x="5724360" y="1596960"/>
            <a:ext cx="1785960" cy="2408400"/>
          </a:xfrm>
          <a:prstGeom prst="rect">
            <a:avLst/>
          </a:prstGeom>
          <a:ln w="0">
            <a:noFill/>
          </a:ln>
        </p:spPr>
      </p:pic>
      <p:sp>
        <p:nvSpPr>
          <p:cNvPr id="164" name="Titel 1"/>
          <p:cNvSpPr/>
          <p:nvPr/>
        </p:nvSpPr>
        <p:spPr>
          <a:xfrm>
            <a:off x="250920" y="4021200"/>
            <a:ext cx="489564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36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ielen Dank fü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hre Aufmerksamke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Sozialarbeit im KWP </a:t>
            </a:r>
            <a:br>
              <a:rPr sz="3200"/>
            </a:b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hat eine lange Tra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1960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ünd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„Kuratorium Wiener Pensionistenheim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s gemeinnütziger Fonds der Stadt Wi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1963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röffnung des ersten Pensionisten Wohnheimes -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1995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s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letzten Hauses - insgesam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0 Hä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1973 Einführung Sozialarb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1996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mbenennung auf Kuratorium Wien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Pensionisten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    Wohnhä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2012 neues Betriebsorganisationskonzept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eutes Wohnen“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0 „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äusern zum Leben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Neupositionierung der Sozialarbei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s SpezialistIn im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disziplinären Team „Haus.Betreu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700" spc="-1" strike="noStrike">
                <a:solidFill>
                  <a:srgbClr val="ffa519"/>
                </a:solidFill>
                <a:latin typeface="Wingdings"/>
                <a:ea typeface="Wingdings"/>
              </a:rPr>
              <a:t></a:t>
            </a:r>
            <a:r>
              <a:rPr b="1" lang="de-DE" sz="1700" spc="-1" strike="noStrike">
                <a:solidFill>
                  <a:srgbClr val="ffa519"/>
                </a:solidFill>
                <a:latin typeface="Arial"/>
              </a:rPr>
              <a:t> </a:t>
            </a:r>
            <a:r>
              <a:rPr b="1" lang="de-DE" sz="1700" spc="-1" strike="noStrike">
                <a:solidFill>
                  <a:srgbClr val="ffa519"/>
                </a:solidFill>
                <a:latin typeface="Arial"/>
              </a:rPr>
              <a:t>Seitdem Zunahme von BewohnerInnen mit/in  psychosozialen Problemlag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atumsplatzhalter 3"/>
          <p:cNvSpPr/>
          <p:nvPr/>
        </p:nvSpPr>
        <p:spPr>
          <a:xfrm>
            <a:off x="457200" y="6453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haeuser-zum-lebe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ußzeilenplatzhalter 4"/>
          <p:cNvSpPr/>
          <p:nvPr/>
        </p:nvSpPr>
        <p:spPr>
          <a:xfrm>
            <a:off x="5580000" y="6453360"/>
            <a:ext cx="3335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Kuratorium Wiener Pensionisten-Wohnhäus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liennummernplatzhalter 5"/>
          <p:cNvSpPr/>
          <p:nvPr/>
        </p:nvSpPr>
        <p:spPr>
          <a:xfrm>
            <a:off x="4067280" y="6453360"/>
            <a:ext cx="57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552B4A-D587-4F9E-8972-FA522E192ABF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umsplatzhalter 3"/>
          <p:cNvSpPr/>
          <p:nvPr/>
        </p:nvSpPr>
        <p:spPr>
          <a:xfrm>
            <a:off x="457200" y="6453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haeuser-zum-lebe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ußzeilenplatzhalter 4"/>
          <p:cNvSpPr/>
          <p:nvPr/>
        </p:nvSpPr>
        <p:spPr>
          <a:xfrm>
            <a:off x="5580000" y="6453360"/>
            <a:ext cx="3335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Kuratorium Wiener Pensionisten-Wohnhäus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liennummernplatzhalter 5"/>
          <p:cNvSpPr/>
          <p:nvPr/>
        </p:nvSpPr>
        <p:spPr>
          <a:xfrm>
            <a:off x="4067280" y="6453360"/>
            <a:ext cx="57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379DA5-DE21-41E1-AC6A-7B1C64984B93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Grafik 1" descr=""/>
          <p:cNvPicPr/>
          <p:nvPr/>
        </p:nvPicPr>
        <p:blipFill>
          <a:blip r:embed="rId1"/>
          <a:stretch/>
        </p:blipFill>
        <p:spPr>
          <a:xfrm>
            <a:off x="146160" y="907920"/>
            <a:ext cx="6154560" cy="5018040"/>
          </a:xfrm>
          <a:prstGeom prst="rect">
            <a:avLst/>
          </a:prstGeom>
          <a:ln w="0">
            <a:noFill/>
          </a:ln>
        </p:spPr>
      </p:pic>
      <p:pic>
        <p:nvPicPr>
          <p:cNvPr id="101" name="Grafik 2" descr=""/>
          <p:cNvPicPr/>
          <p:nvPr/>
        </p:nvPicPr>
        <p:blipFill>
          <a:blip r:embed="rId2"/>
          <a:srcRect l="0" t="0" r="0" b="1390"/>
          <a:stretch/>
        </p:blipFill>
        <p:spPr>
          <a:xfrm>
            <a:off x="5651640" y="1268280"/>
            <a:ext cx="3473280" cy="5113440"/>
          </a:xfrm>
          <a:prstGeom prst="rect">
            <a:avLst/>
          </a:prstGeom>
          <a:ln w="0">
            <a:noFill/>
          </a:ln>
        </p:spPr>
      </p:pic>
      <p:pic>
        <p:nvPicPr>
          <p:cNvPr id="102" name="Bild 5" descr=""/>
          <p:cNvPicPr/>
          <p:nvPr/>
        </p:nvPicPr>
        <p:blipFill>
          <a:blip r:embed="rId3"/>
          <a:stretch/>
        </p:blipFill>
        <p:spPr>
          <a:xfrm>
            <a:off x="468360" y="189000"/>
            <a:ext cx="1193760" cy="13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Grunddat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zum KWP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etreuungsplätze:  rd. 9.000 (nur in Wi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hnungen: rd. 7.2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lätze im stationären Bereich: rd. 1.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lätze in Schwerpunktstationen: rd.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a519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 Remobilisationssta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a519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treuungszentrum Rosenberg für Menschen mit Dem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urchschnittliches Einzugsalter/Pflegegeldstu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hnbereich: 81 Jahre – PGST 2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ionärer Bereich: 83 Jahre – PGST 4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umsplatzhalter 3"/>
          <p:cNvSpPr/>
          <p:nvPr/>
        </p:nvSpPr>
        <p:spPr>
          <a:xfrm>
            <a:off x="457200" y="6453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haeuser-zum-lebe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ußzeilenplatzhalter 4"/>
          <p:cNvSpPr/>
          <p:nvPr/>
        </p:nvSpPr>
        <p:spPr>
          <a:xfrm>
            <a:off x="5580000" y="6453360"/>
            <a:ext cx="3335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Kuratorium Wiener Pensionisten-Wohnhäus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liennummernplatzhalter 5"/>
          <p:cNvSpPr/>
          <p:nvPr/>
        </p:nvSpPr>
        <p:spPr>
          <a:xfrm>
            <a:off x="4067280" y="6453360"/>
            <a:ext cx="57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5B0039-2F4C-4C20-A038-CE059D3C16CD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500" spc="-1" strike="noStrike">
                <a:solidFill>
                  <a:srgbClr val="ff0000"/>
                </a:solidFill>
                <a:latin typeface="Arial"/>
              </a:rPr>
              <a:t>Einbindung der Sozialarbeit in das interdisziplinäre Team „Haus.Betreuung“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atumsplatzhalter 3"/>
          <p:cNvSpPr/>
          <p:nvPr/>
        </p:nvSpPr>
        <p:spPr>
          <a:xfrm>
            <a:off x="457200" y="6453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haeuser-zum-lebe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ußzeilenplatzhalter 4"/>
          <p:cNvSpPr/>
          <p:nvPr/>
        </p:nvSpPr>
        <p:spPr>
          <a:xfrm>
            <a:off x="5580000" y="6453360"/>
            <a:ext cx="3335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Kuratorium Wiener Pensionisten-Wohnhäus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liennummernplatzhalter 5"/>
          <p:cNvSpPr/>
          <p:nvPr/>
        </p:nvSpPr>
        <p:spPr>
          <a:xfrm>
            <a:off x="4067280" y="6453360"/>
            <a:ext cx="57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B42D22-B709-4979-A7A2-E5B140315B0C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nhaltsplatzhalter 4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468360" y="1341360"/>
            <a:ext cx="8351640" cy="547848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113" name="Pfeil nach rechts 7"/>
          <p:cNvSpPr/>
          <p:nvPr/>
        </p:nvSpPr>
        <p:spPr>
          <a:xfrm>
            <a:off x="2308320" y="3902040"/>
            <a:ext cx="287280" cy="21600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Zielgruppe der Sozialarbeit </a:t>
            </a:r>
            <a:br>
              <a:rPr sz="3200"/>
            </a:b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im KW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wohnerInnen/ deren Bezugspers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in schwierigen Lebenssituationen/ an Übergä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mit speziellem Informations- und Beratungsbedar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mit geringen/keinen oder konfliktreichen sozialen Kontak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In psychosozialen Krisen- und Konfliktsituatio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mit Defiziten in ihrer sozialen Kompetenz, Kommunikationsfähigke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elastete Angehörige im Umgang mit den BewohnerIn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atumsplatzhalter 3"/>
          <p:cNvSpPr/>
          <p:nvPr/>
        </p:nvSpPr>
        <p:spPr>
          <a:xfrm>
            <a:off x="457200" y="6453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haeuser-zum-lebe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ußzeilenplatzhalter 4"/>
          <p:cNvSpPr/>
          <p:nvPr/>
        </p:nvSpPr>
        <p:spPr>
          <a:xfrm>
            <a:off x="5580000" y="6453360"/>
            <a:ext cx="3335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Kuratorium Wiener Pensionisten-Wohnhäus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liennummernplatzhalter 5"/>
          <p:cNvSpPr/>
          <p:nvPr/>
        </p:nvSpPr>
        <p:spPr>
          <a:xfrm>
            <a:off x="4067280" y="6453360"/>
            <a:ext cx="57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410512-0A99-4612-A6C8-CD683658F65E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Kernaufgaben Sozialer Arbeit </a:t>
            </a:r>
            <a:br>
              <a:rPr sz="3200"/>
            </a:b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im KW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hinderung/ Milderung von Exklusion in prekären Lebenslagen (z.B.: finanzielle Proble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sychosoziale Beratung und Unterstütz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on/ Klärung/ Unterstützung  zu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antragung sozialer Unterstützungsleistungen und bei Behördenangelegenhe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örderung von sozialen Netzen intern und ex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on und Beratung zu Möglichkeiten rechtlicher Vertretung bei Verlust der Geschäftsfähigkeit (präventiv und aktue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atumsplatzhalter 3"/>
          <p:cNvSpPr/>
          <p:nvPr/>
        </p:nvSpPr>
        <p:spPr>
          <a:xfrm>
            <a:off x="457200" y="6453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haeuser-zum-lebe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ußzeilenplatzhalter 4"/>
          <p:cNvSpPr/>
          <p:nvPr/>
        </p:nvSpPr>
        <p:spPr>
          <a:xfrm>
            <a:off x="5580000" y="6453360"/>
            <a:ext cx="3335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Kuratorium Wiener Pensionisten-Wohnhäus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liennummernplatzhalter 5"/>
          <p:cNvSpPr/>
          <p:nvPr/>
        </p:nvSpPr>
        <p:spPr>
          <a:xfrm>
            <a:off x="4067280" y="6453360"/>
            <a:ext cx="57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DA5796-CF73-478B-B4EC-433CA44FEE92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  <a:ea typeface="Arial"/>
              </a:rPr>
              <a:t>Entwicklung des IC3ger im KW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a51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2013: Erarbeitung der Version </a:t>
            </a: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IC3ger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im Rahmen eines Fortbildungsseminares für SozialarbeiterInnen im KW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a51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Verankerung und Kombination des Instruments im Rahmen der offiziellen BewohnerInnen-Dokumentation im KW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a51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 u="sng">
                <a:solidFill>
                  <a:srgbClr val="000000"/>
                </a:solidFill>
                <a:uFillTx/>
                <a:latin typeface="Arial"/>
              </a:rPr>
              <a:t>Ziel: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isiertes Instrument für eine strukturiert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professionelle Situationsanalyse, Darstellung und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Planung von sozialarbeiterischen Interventione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a5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atumsplatzhalter 3"/>
          <p:cNvSpPr/>
          <p:nvPr/>
        </p:nvSpPr>
        <p:spPr>
          <a:xfrm>
            <a:off x="457200" y="6453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haeuser-zum-lebe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ußzeilenplatzhalter 4"/>
          <p:cNvSpPr/>
          <p:nvPr/>
        </p:nvSpPr>
        <p:spPr>
          <a:xfrm>
            <a:off x="5580000" y="6453360"/>
            <a:ext cx="3335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Kuratorium Wiener Pensionisten-Wohnhäus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liennummernplatzhalter 5"/>
          <p:cNvSpPr/>
          <p:nvPr/>
        </p:nvSpPr>
        <p:spPr>
          <a:xfrm>
            <a:off x="4067280" y="6453360"/>
            <a:ext cx="57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488480-DED4-4572-A61C-D5489F28BF44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umsplatzhalter 3"/>
          <p:cNvSpPr/>
          <p:nvPr/>
        </p:nvSpPr>
        <p:spPr>
          <a:xfrm>
            <a:off x="457200" y="6453360"/>
            <a:ext cx="2133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haeuser-zum-lebe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ußzeilenplatzhalter 4"/>
          <p:cNvSpPr/>
          <p:nvPr/>
        </p:nvSpPr>
        <p:spPr>
          <a:xfrm>
            <a:off x="5580000" y="6453360"/>
            <a:ext cx="3335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Kuratorium Wiener Pensionisten-Wohnhäus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liennummernplatzhalter 5"/>
          <p:cNvSpPr/>
          <p:nvPr/>
        </p:nvSpPr>
        <p:spPr>
          <a:xfrm>
            <a:off x="4067280" y="6453360"/>
            <a:ext cx="57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08698C-D325-4141-B081-AE6C1626FA6F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Grafik 6" descr=""/>
          <p:cNvPicPr/>
          <p:nvPr/>
        </p:nvPicPr>
        <p:blipFill>
          <a:blip r:embed="rId1"/>
          <a:stretch/>
        </p:blipFill>
        <p:spPr>
          <a:xfrm>
            <a:off x="34920" y="404640"/>
            <a:ext cx="907272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14:56:00Z</dcterms:created>
  <dc:creator>Angelika.Neuer@kwp.at</dc:creator>
  <dc:description/>
  <dc:language>en-US</dc:language>
  <cp:lastModifiedBy>Eva Grigori</cp:lastModifiedBy>
  <cp:lastPrinted>2012-11-29T10:21:41Z</cp:lastPrinted>
  <dcterms:modified xsi:type="dcterms:W3CDTF">2015-09-30T15:53:01Z</dcterms:modified>
  <cp:revision>319</cp:revision>
  <dc:subject/>
  <dc:title>Das sind wir.</dc:title>
</cp:coreProperties>
</file>