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307-B5ED-4BD4-B1AC-1269AD34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9CD-7CA9-4845-B5E2-092B5BB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86E-1684-4849-A7E5-C69AAC9F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B41-32AA-4B8F-8A16-99D9CFFC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41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013-AB4F-486F-BD8D-EC8B69C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137-B638-451C-9DFC-183B681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A73-F91F-4657-B052-0102D13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12A-6D98-4E6B-BEEB-05AABDB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41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1FC-1A26-49F1-A0C8-D85065C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0A-6C20-4AF8-B234-A7D8942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25F-D137-406D-B49A-C5C0B0D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899-9AAA-4DBF-A9EE-F8CF8BD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3" descr="KWP Blumenleiste kleiner Powerpoint Folie.jpg"/>
          <p:cNvPicPr/>
          <p:nvPr/>
        </p:nvPicPr>
        <p:blipFill>
          <a:blip r:embed="rId2"/>
          <a:stretch/>
        </p:blipFill>
        <p:spPr>
          <a:xfrm>
            <a:off x="0" y="550080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a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a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a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57964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67280" y="6453000"/>
            <a:ext cx="57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432EC-6D05-4EF1-9B96-594E7FBB4DA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hzl_4c_rgb"/>
          <p:cNvPicPr/>
          <p:nvPr/>
        </p:nvPicPr>
        <p:blipFill>
          <a:blip r:embed="rId3"/>
          <a:stretch/>
        </p:blipFill>
        <p:spPr>
          <a:xfrm>
            <a:off x="7142040" y="407880"/>
            <a:ext cx="1606680" cy="87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d 3" descr="KWP Blumenleiste kleiner Powerpoint Folie.jpg"/>
          <p:cNvPicPr/>
          <p:nvPr/>
        </p:nvPicPr>
        <p:blipFill>
          <a:blip r:embed="rId2"/>
          <a:stretch/>
        </p:blipFill>
        <p:spPr>
          <a:xfrm>
            <a:off x="0" y="550080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zl_4c_rgb"/>
          <p:cNvPicPr/>
          <p:nvPr/>
        </p:nvPicPr>
        <p:blipFill>
          <a:blip r:embed="rId3"/>
          <a:stretch/>
        </p:blipFill>
        <p:spPr>
          <a:xfrm>
            <a:off x="324000" y="216000"/>
            <a:ext cx="2087280" cy="1135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a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a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a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651640" y="6473880"/>
            <a:ext cx="3247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5720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651640" y="6473880"/>
            <a:ext cx="3247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57160" y="141120"/>
            <a:ext cx="62355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a519"/>
                </a:solidFill>
                <a:latin typeface="Arial"/>
                <a:ea typeface="Arial"/>
              </a:rPr>
              <a:t>Das IC3ger in der Sozialen Arbeit 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Kuratorium Wiener Pensionisten-Wohn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3640" y="5500800"/>
            <a:ext cx="705636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ierte Fassung des IC3 für die Anwend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institutionellen Altenarb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Bild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4000"/>
          </a:xfrm>
          <a:prstGeom prst="rect">
            <a:avLst/>
          </a:prstGeom>
          <a:ln w="0">
            <a:noFill/>
          </a:ln>
        </p:spPr>
      </p:pic>
      <p:pic>
        <p:nvPicPr>
          <p:cNvPr id="90" name="Bild 9" descr=""/>
          <p:cNvPicPr/>
          <p:nvPr/>
        </p:nvPicPr>
        <p:blipFill>
          <a:blip r:embed="rId2"/>
          <a:stretch/>
        </p:blipFill>
        <p:spPr>
          <a:xfrm>
            <a:off x="0" y="535788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Wie wirkt sich die Einnahme von Drogen auf eine Spinne beim Netzbau aus? Eine spannende Frage, der US-Forscher auf den Grund gegangen sind. Im Folgenden die Ergebnisse."/>
          <p:cNvPicPr/>
          <p:nvPr/>
        </p:nvPicPr>
        <p:blipFill>
          <a:blip r:embed="rId3"/>
          <a:stretch/>
        </p:blipFill>
        <p:spPr>
          <a:xfrm>
            <a:off x="395280" y="1533600"/>
            <a:ext cx="82803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nhaltsplatzhalter 7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8742600" cy="5913360"/>
          </a:xfrm>
          <a:prstGeom prst="rect">
            <a:avLst/>
          </a:prstGeom>
          <a:ln w="0">
            <a:noFill/>
          </a:ln>
        </p:spPr>
      </p:pic>
      <p:sp>
        <p:nvSpPr>
          <p:cNvPr id="134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344C9-45D1-4215-9188-3E26B8981AD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6EDA2-C521-4B99-8047-157693CC6DF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629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C6884-DF83-46FC-AD0D-749EE626AC9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1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948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0000"/>
                </a:solidFill>
                <a:latin typeface="Arial"/>
                <a:ea typeface="Arial"/>
              </a:rPr>
              <a:t>Einsatz des Instrum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liegt dzt. in der Entscheidung der SozialarbeiterInnen bei welchen Fällen das Instrument eingesetzt wi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bei komplexen Problemstell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beim Erstkontakt nach Einz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als Expertise für eine Fragestellung in der ICCM –Bespre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Als Grundlage für eine fachliche Intervision mit der Fachexpertin der 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92409-818F-435F-9416-F2403013638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Arial"/>
                <a:ea typeface="Arial"/>
              </a:rPr>
              <a:t>Fragestellungen/Problem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Es fehlt im Instrument ein Platz, wo die Geschäftsfähigkeit erfass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Fraglich: Sinnhaftigkeit der Trennung von „extern“ und „intern“ auf  Achse 1  - Übersichtlichkeit ger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chse 2: Statt Information/Medien wäre „Medien/Kultur“ als Kategorie anzude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chse 2: Wessen Beurteilung wird dargestellt, ob „Wohnen „ / „Sicherheit“ adäquat ist? KlientIn/SO?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Es gibt dabei mehrere Aspekte, individuell empfundene/professionell wahrgenomm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Verbindung mit dem KWP internem Doku-System &gt;&gt; keine doppelte Dokumentation (geringe Zeitressourcen vermindern die Motivation das Instrument zu verwe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F68EF-4D6F-41D0-838D-5BC4793111C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0E94A-857E-4F3C-A243-0411424A250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ntertitel 2"/>
          <p:cNvSpPr/>
          <p:nvPr/>
        </p:nvSpPr>
        <p:spPr>
          <a:xfrm>
            <a:off x="120600" y="1628640"/>
            <a:ext cx="5099040" cy="1656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2"/>
          <p:cNvSpPr/>
          <p:nvPr/>
        </p:nvSpPr>
        <p:spPr>
          <a:xfrm flipH="1">
            <a:off x="5362560" y="1440"/>
            <a:ext cx="1440" cy="6858000"/>
          </a:xfrm>
          <a:prstGeom prst="line">
            <a:avLst/>
          </a:prstGeom>
          <a:ln w="19080">
            <a:solidFill>
              <a:srgbClr val="ffa5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Bild 5" descr=""/>
          <p:cNvPicPr/>
          <p:nvPr/>
        </p:nvPicPr>
        <p:blipFill>
          <a:blip r:embed="rId1"/>
          <a:stretch/>
        </p:blipFill>
        <p:spPr>
          <a:xfrm>
            <a:off x="379440" y="203040"/>
            <a:ext cx="1038240" cy="1138320"/>
          </a:xfrm>
          <a:prstGeom prst="rect">
            <a:avLst/>
          </a:prstGeom>
          <a:ln w="0">
            <a:noFill/>
          </a:ln>
        </p:spPr>
      </p:pic>
      <p:sp>
        <p:nvSpPr>
          <p:cNvPr id="161" name="Untertitel 2"/>
          <p:cNvSpPr/>
          <p:nvPr/>
        </p:nvSpPr>
        <p:spPr>
          <a:xfrm>
            <a:off x="5724360" y="4611600"/>
            <a:ext cx="2808360" cy="833400"/>
          </a:xfrm>
          <a:prstGeom prst="rect">
            <a:avLst/>
          </a:prstGeom>
          <a:solidFill>
            <a:srgbClr val="ffa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achexpertin Interdisziplinäres Qualitätsmanagement -Schwerpunkt Sozialarb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5722200" y="4154400"/>
            <a:ext cx="219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SA Angelika 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Neu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Angelika Neuer neu2"/>
          <p:cNvPicPr/>
          <p:nvPr/>
        </p:nvPicPr>
        <p:blipFill>
          <a:blip r:embed="rId2"/>
          <a:stretch/>
        </p:blipFill>
        <p:spPr>
          <a:xfrm>
            <a:off x="5724360" y="1596960"/>
            <a:ext cx="1785960" cy="2408400"/>
          </a:xfrm>
          <a:prstGeom prst="rect">
            <a:avLst/>
          </a:prstGeom>
          <a:ln w="0">
            <a:noFill/>
          </a:ln>
        </p:spPr>
      </p:pic>
      <p:sp>
        <p:nvSpPr>
          <p:cNvPr id="164" name="Titel 1"/>
          <p:cNvSpPr/>
          <p:nvPr/>
        </p:nvSpPr>
        <p:spPr>
          <a:xfrm>
            <a:off x="250920" y="4021200"/>
            <a:ext cx="48956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elen Dank fü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ozialarbeit im KWP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at eine lange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6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ün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Kuratorium Wiener Pensionistenhei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gemeinnütziger Fonds der Stadt W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öffnung des ersten Pensionisten Wohnheimes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letzten Hauses - insgesam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1973 Einführung Sozial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mbenennung auf Kuratorium Wi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ensionisten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Wohn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12 neues Betriebsorganisationskonzep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eutes Wohnen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0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sern zum Leben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Neupositionierung der Sozialarb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s SpezialistIn im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disziplinären Team „Haus.Betreu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ffa519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Seitdem Zunahme von BewohnerInnen mit/in  psychosozialen Problemla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AB283-0435-44D6-9E1B-DFC0DB59D6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64898-2891-401F-96BD-335E64E933A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6154560" cy="501804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2" descr=""/>
          <p:cNvPicPr/>
          <p:nvPr/>
        </p:nvPicPr>
        <p:blipFill>
          <a:blip r:embed="rId2"/>
          <a:srcRect l="0" t="0" r="0" b="1390"/>
          <a:stretch/>
        </p:blipFill>
        <p:spPr>
          <a:xfrm>
            <a:off x="5651640" y="1268280"/>
            <a:ext cx="3473280" cy="5113440"/>
          </a:xfrm>
          <a:prstGeom prst="rect">
            <a:avLst/>
          </a:prstGeom>
          <a:ln w="0">
            <a:noFill/>
          </a:ln>
        </p:spPr>
      </p:pic>
      <p:pic>
        <p:nvPicPr>
          <p:cNvPr id="102" name="Bild 5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19376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runddat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zum KWP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treuungsplätze:  rd. 9.000 (nur in W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nungen: rd. 7.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ätze im stationären Bereich: rd. 1.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ätze in Schwerpunktstationen: rd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Remobilisationsst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euungszentrum Rosenberg für Menschen mit Dem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rchschnittliches Einzugsalter/Pflegegeld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nbereich: 81 Jahre – PGST 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onärer Bereich: 83 Jahre – PGST 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4E7B1-B37A-4061-A1A3-12CC8D1701A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ff0000"/>
                </a:solidFill>
                <a:latin typeface="Arial"/>
              </a:rPr>
              <a:t>Einbindung der Sozialarbeit in das interdisziplinäre Team „Haus.Betreuung“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16336-1126-4F7B-B556-92A33D1D3EE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nhaltsplatzhalter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1341360"/>
            <a:ext cx="8351640" cy="5478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13" name="Pfeil nach rechts 7"/>
          <p:cNvSpPr/>
          <p:nvPr/>
        </p:nvSpPr>
        <p:spPr>
          <a:xfrm>
            <a:off x="2308320" y="39020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Zielgruppe der Sozialarbeit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wohnerInnen/ deren Bezugs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schwierigen Lebenssituationen/ an Übergä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speziellem Informations- und Beratungsbedar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geringen/keinen oder konfliktreichen sozialen Kontak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psychosozialen Krisen- und Konfliktsitu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Defiziten in ihrer sozialen Kompetenz, Kommunikationsfähig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lastete Angehörige im Umgang mit den Bewohner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CD451-45FF-4F3E-AA57-7D9ECC61C4A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Kernaufgaben Sozialer Arbeit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inderung/ Milderung von Exklusion in prekären Lebenslagen (z.B.: finanzielle Probl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sychosoziale Beratung und Unterstütz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/ Klärung/ Unterstützung  z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tragung sozialer Unterstützungsleistungen und bei Behördenangelegenh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sozialen Netzen intern und ex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und Beratung zu Möglichkeiten rechtlicher Vertretung bei Verlust der Geschäftsfähigkeit (präventiv und aktu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A7BAE-CF3B-482D-9215-7DB3308F457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Entwicklung des IC3ger 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2013: Erarbeitung der Version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C3g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m Rahmen eines Fortbildungsseminares für SozialarbeiterInnen im K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ankerung und Kombination des Instruments im Rahmen der offiziellen BewohnerInnen-Dokumentation im K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Ziel: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siertes Instrument für eine strukturier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elle Situationsanalyse, Darstellung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lanung von sozialarbeiterischen Intervention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E9D58-2B0C-4758-84CD-66F4EDE7B59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05EE5-CA94-4745-9385-D6C562784DA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6" descr=""/>
          <p:cNvPicPr/>
          <p:nvPr/>
        </p:nvPicPr>
        <p:blipFill>
          <a:blip r:embed="rId1"/>
          <a:stretch/>
        </p:blipFill>
        <p:spPr>
          <a:xfrm>
            <a:off x="34920" y="404640"/>
            <a:ext cx="90727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4:56:00Z</dcterms:created>
  <dc:creator>Angelika.Neuer@kwp.at</dc:creator>
  <dc:description/>
  <dc:language>en-US</dc:language>
  <cp:lastModifiedBy>Eva Grigori</cp:lastModifiedBy>
  <cp:lastPrinted>2012-11-29T10:21:41Z</cp:lastPrinted>
  <dcterms:modified xsi:type="dcterms:W3CDTF">2015-09-30T15:53:01Z</dcterms:modified>
  <cp:revision>319</cp:revision>
  <dc:subject/>
  <dc:title>Das sind wir.</dc:title>
</cp:coreProperties>
</file>